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321-F4FA-4D87-9BEF-78321654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D6B-774F-4236-A917-24970512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F1E-8690-4C83-B138-2E6211D4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DB5-6ECA-4411-8534-C5A5D23E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2922-CEAD-4CB2-80A2-E1AFB3C6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2C49-3E5C-4C81-B2CE-F40B4986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2975-9F2B-46F4-BF0F-3670ED6A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C327-9679-4833-B522-80CE84BA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B1BE-4025-40B8-A98A-075371F5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CBBF-2187-4B52-B4CC-F46BF2C7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5DEE-84F0-4598-8C05-4C53F06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4A3-2AFB-477D-95EC-9F9D77BA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4110-AA80-42BF-BE1C-B8F6BE63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CCCB-F44D-4975-A013-D54EE65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EA9E-F7FD-4763-BFF9-6E25F9A3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E379-6EC2-4F90-A1F3-96752771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A806-2F86-467E-986D-6AC79208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45687-363B-450E-9C79-F1628CB6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B85B4-9D01-4668-8F8B-4E9E685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71961-93CE-4BB9-85D0-48F0F97B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99C4B-2D52-4AF0-B301-4A4E38D9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9F721-D716-4498-97E9-D42DA2C6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D28-2FF0-45F5-9BE4-28FD3146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9F16A-DAD8-4CB7-94AA-965BE21D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3FAE6-4327-4048-B44B-3582BB2F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A260C-542A-449C-9F16-0A11C21A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68B22-FD69-4478-80DB-E8FA699B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E0D74-2132-46A5-9638-2AE9A524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FE178-C093-4B04-A159-B7E38F76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F8985-608D-45DB-8CAA-4382612F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7699-4B88-4459-BF61-08CA6C81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8CFBE-D7D0-40A8-9F62-6E600BF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0BDD-9E8C-46B6-AD8B-27D2F525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72E-D8DD-41B4-9AFC-D3C23537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5719-4213-4137-808B-A5A9305C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788F-93C4-4A66-B03A-6A41E08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232A-BF79-41E7-A9DD-73C9B1C7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9952F-084E-4A3D-9DDE-73039E98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A88A8-C329-41DA-92F1-F8A2D4A7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3BBB-093B-4CBB-88A1-261A74F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E5E2-C594-4E77-B096-0F746D2E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3080-9778-4BA8-9F10-B9AA96B0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2FF2C-F09E-4576-9557-A3BB47B9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CD2-8CE5-48B1-956F-9DF4E941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874-75B0-42F3-831C-8BF9619C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14E-70A0-4480-852E-90E63B70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080-56C8-44CF-86E9-750F5510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782-CEAC-4D2E-BB19-07DCAD35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24A0-0C9C-47A0-A975-397EB90BEC58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DCA8-3BA0-440B-92B9-0DAA0FC8539B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9544-0FD8-46B9-8095-E2C270DFE287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9109-7DCA-4812-8053-067677912DD8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rwMWPLlQ3nXfGM&amp;tbnid=12qTD16l8kHpgM:&amp;ved=0CAUQjRw&amp;url=http%3A%2F%2Fwww.city-data.com%2Fforum%2Fphotography%2F493951-balloons-hot-air-balloons-2.html&amp;ei=Wj41Uey4L5O40QGRkIC4CQ&amp;bvm=bv.43148975,d.dmQ&amp;psig=AFQjCNFhXrzpqKqTtYkZbe5dK9pJjVPAwA&amp;ust=136253023470406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YwyKmzEJ9d9tM&amp;tbnid=lZTBywHJcXgl7M:&amp;ved=0CAUQjRw&amp;url=http%3A%2F%2Fwww.kalipedia.com%2Fecologia%2Ftema%2Fequivalencia-escalas.html%3Fx%3D20070924klpcnafyq_21.Kes%26ap%3D0&amp;ei=Fz81UbPdIeu30AGR0IDIDg&amp;bvm=bv.43148975,d.dmQ&amp;psig=AFQjCNGCuxyZsz9CxctAiIFS1wC7Oi9DVw&amp;ust=1362530445848583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7_iZK3UNdpZ0SM&amp;tbnid=E8PCK6bM1Q2jKM:&amp;ved=0CAUQjRw&amp;url=http%3A%2F%2Fandeducation.co.uk%2FScience-Active%2Fmatterweb%2Fparticles.htm&amp;ei=lz01UcG6DIrL0wGQhoC4Bg&amp;bvm=bv.43148975,d.dmQ&amp;psig=AFQjCNFgEzdZ3JKyVsa-ligIvyhXBARoGQ&amp;ust=1362529989151435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xJ0Tjr3_ePdSM&amp;tbnid=LLzAoqUYOjJyNM:&amp;ved=0CAUQjRw&amp;url=http%3A%2F%2Fen.wikipedia.org%2Fwiki%2FBrownian_motion&amp;ei=wT81Udr_BurB0QHdv4CYAQ&amp;psig=AFQjCNF1bNZsM4ggpk6lcfDo2IHQDHyh-A&amp;ust=1362530607519517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itannica.com/EBchecked/media/95584/The-atmospheres-of-planets-in-the-solar-system-are-composed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hapter 10</a:t>
            </a:r>
            <a:endParaRPr b="0" lang="en-US" sz="44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Microsoft Sans Serif"/>
              </a:rPr>
              <a:t>Kinetic Models of Liquids and Solids</a:t>
            </a:r>
            <a:endParaRPr b="0" lang="en-US" sz="36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terparticle forces in a liquid maintain their volume, but not their shap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particles of a liquid can slide past each other, but they are so close together that they don’t move straight or smooth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trong forces between particles explain the rigid structure of solid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is arrangement is called a crystal lattice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Particles of a solid cannot move past each other, but they bounce off of one anoth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Other Form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Materials called liquid crystals lose their rigid organization in only one or two dimensions when they melt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terparticle forces are relatively weak, and they can flow like a liquid when the lattice is broke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n amorphous materia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 has a haphazard, disjointed, and incomplete crystal lattic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plasma is an ionized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t can conduct electrical current, but it is electrically neutral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y is the air inside a hot air balloon heate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41" name="Picture 5" descr="http://www.city-data.com/forum/attachments/photography/44958d1247413674-balloons-hot-air-balloons-balloon-pics-0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200400"/>
            <a:ext cx="402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material is a measure of the average kinetic energy of particl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s temperature increases, kinetic energy also increases and vice versa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ould kinetic energy ever be zero?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temperature at which a substance would have zero kinetic energy is called absolute zero.</a:t>
            </a:r>
            <a:endParaRPr b="0" lang="en-US" sz="2400" spc="-1" strike="noStrike">
              <a:solidFill>
                <a:srgbClr val="53548a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elvin scale is defined so that the temperature of a substance is directly proportional to the average kinetic energy of the particl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Convers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Kelvin to Celsiu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elsius = Kelvin -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elsius to Kelvi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Kelvin = Celsius +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46" name="Picture 5" descr="http://www.kalipedia.com/kalipediamedia/cienciasnaturales/media/200709/24/fisicayquimica/20070924klpcnafyq_8.Ees.SC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096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ass, Speed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wo gases at the same temperature will have the same kinetic energy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the gases have the same mass, then they will also travel at the same spee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one gas is lighter than the other, the lighter gas will travel faster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iffusion is the process by which particles of matter fill a space because of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vier particles diffuse more slowly than lighter one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freezing point of water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melting point of ice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1" name="Picture 5" descr="http://www.personalrefrigeration.co.uk/images/PR%20images/melting_ice_cubes.jpg"/>
          <p:cNvPicPr/>
          <p:nvPr/>
        </p:nvPicPr>
        <p:blipFill>
          <a:blip r:embed="rId1"/>
          <a:stretch/>
        </p:blipFill>
        <p:spPr>
          <a:xfrm>
            <a:off x="3657600" y="3352680"/>
            <a:ext cx="5067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vaporation is the process by which particles of a liquid form a gas by escaping from the surfac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area of the surface, temperature, and humidity affect the rate of evaporat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Liquids that evaporate quickly are volatile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ocess by which particles of a solid escape from its surface and form a gas is called sublim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4" name="Picture 5" descr="http://www.aboutcivil.org/imajes/evaporation.jpg"/>
          <p:cNvPicPr/>
          <p:nvPr/>
        </p:nvPicPr>
        <p:blipFill>
          <a:blip r:embed="rId1"/>
          <a:stretch/>
        </p:blipFill>
        <p:spPr>
          <a:xfrm>
            <a:off x="4168800" y="4724280"/>
            <a:ext cx="38098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ondensation is the process of gas particles coming closer together (condense) and form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essure of a substance in equilibrium with it’s liquid is called its vapor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Volatile substances have high vapor pressur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boiling point of a substance is the temperature of a substance when its vapor pressure equals the pressure exerted on the surface of the liquid (atmospheric pressure)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energy absorbed when 1 kg of a liquid vaporizes at its normal boiling point is called its heat of vaporiz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joule is the SI unit of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Heat of vaporization for water is 2.26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icrosoft Sans Serif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Joules/kg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Burns from steam are usually more severe than burns received form hot water.  This is because the steam transfers a great deal of heat to the skin when it condens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containers of liquid.  Which container has the greater volume of liqui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balloons.  Which balloon has the greater volume of gas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of Vaporiza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heat is absorbed by 300k of water as it vaporizes at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Microsoft Sans Serif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melting point is the temperature of the solid when its crystal lattice begins to fall apart to become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liquid when it begins to form a crystal lattice and becomes a solid is called its freezing point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released as 1 kg of a substance solidifies at its freezing point is called its heat of fus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heat of fusion for water is 3.34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icrosoft Sans Serif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Joules/kg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of fus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heat is released by 2.3Kg of water as it solidifies at its freezing poin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pic>
        <p:nvPicPr>
          <p:cNvPr id="266" name="Content Placeholder 3" descr=""/>
          <p:cNvPicPr/>
          <p:nvPr/>
        </p:nvPicPr>
        <p:blipFill>
          <a:blip r:embed="rId1"/>
          <a:srcRect l="1546" t="2937" r="13323" b="2674"/>
          <a:stretch/>
        </p:blipFill>
        <p:spPr>
          <a:xfrm>
            <a:off x="6172200" y="685800"/>
            <a:ext cx="2755800" cy="2927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01520" y="2666880"/>
            <a:ext cx="5880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hysical Behavior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re is a close relationship between the physical state of a substance and its temperat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You will discover that the state of any matter is determined by the motion of its particles and the attractive forces between them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State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8684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solid is rigid with a 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olids are rigid because the atoms, ions, or molecules that make up a solid are fixed in place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liquid is flowing matter with a definite volume but an in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A liquid takes the shape of its container because the particles of a liquid can move and easily glide over each o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gas is flowing, compressible matter that has NO definite volume or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e particles that make up a gas are much farther apart, so they can be easily pushed toge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2" name="Picture 5" descr="http://andeducation.co.uk/Science-Active/matterweb/img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876920"/>
            <a:ext cx="5051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constant, random motion of tiny chunks of matter is called Brownian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kinetic theory states that submicroscopic particles of matter are in constant,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of moving objects is called kinetic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5" name="Picture 5" descr="http://upload.wikimedia.org/wikipedia/commons/6/6d/Translational_mo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029200"/>
            <a:ext cx="19382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Gas particles do not lose kinetic energy when they collide with the walls of their container or with another gas particl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gas particle rebounds without losing speed but in a new directio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ollisions of particles in a gas are called elastic collisions because no kinetic energy is lost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gas with particles that are in constant random motion but have no attraction for each other is called an ideal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deal gases undergo elastic collisions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924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xcept at very low temperatures or very high pressures, nearly all real gases behave as ideal gas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inetic theory explains why gases fill their container and why they exert pressure on the walls of the contain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gas particles move randomly in all directions until they strike the walls or other particles and bounce back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4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ry to lift the mat off of the lab table in the back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 you do i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force is acting on the ma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32" name="Picture 5" descr="http://media-2.web.britannica.com/eb-media/98/74598-050-EAACFFD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19720"/>
            <a:ext cx="28576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ore on the 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essure is the force acting on a unit area of a surface (the force per square centimeter)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arth’s atmosphere, which is a mixture of gases, exerts a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tmospheric pressure is caused by the constant bombardment of the molecules and atoms in ai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3:23:40Z</dcterms:created>
  <dc:creator>Dawn</dc:creator>
  <dc:description/>
  <dc:language>en-US</dc:language>
  <cp:lastModifiedBy>Dawn</cp:lastModifiedBy>
  <dcterms:modified xsi:type="dcterms:W3CDTF">2014-05-11T22:44:16Z</dcterms:modified>
  <cp:revision>38</cp:revision>
  <dc:subject/>
  <dc:title>Chapter 10</dc:title>
</cp:coreProperties>
</file>